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D789-639E-4406-B174-1C471CE11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AE14-886A-46E6-B8F7-569464993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697F-6551-49EB-B9D9-BA7CA02A2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90DF-CCC9-4F18-A1C0-7A64DB43D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6571-7537-45F1-8504-185FAA167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94C3-5FFE-4F18-B1FC-12EFC1B48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AE27-BF7E-4C68-8E36-018BD10B4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3BDA-1BE9-41AF-9023-48ACB9BCF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1542-17EA-4FFB-9F17-E1A8902D5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B854-ABAD-430B-ADA2-77BB5DAB7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747C-277B-4EC3-AB56-DD09859F7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C186-34C2-487F-AD6D-3476F4882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056e"/>
            </a:gs>
            <a:gs pos="50000">
              <a:srgbClr val="000000"/>
            </a:gs>
            <a:gs pos="100000">
              <a:srgbClr val="fb056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00625-66E9-4BAE-906D-B45FE93DCD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056e"/>
            </a:gs>
            <a:gs pos="50000">
              <a:srgbClr val="000000"/>
            </a:gs>
            <a:gs pos="100000">
              <a:srgbClr val="fb056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Setting up “test bridge” </a:t>
            </a: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666880" y="2313000"/>
            <a:ext cx="373392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056e"/>
            </a:gs>
            <a:gs pos="50000">
              <a:srgbClr val="000000"/>
            </a:gs>
            <a:gs pos="100000">
              <a:srgbClr val="fb056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dding Weight 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60720" y="1752480"/>
            <a:ext cx="2855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056e"/>
            </a:gs>
            <a:gs pos="50000">
              <a:srgbClr val="000000"/>
            </a:gs>
            <a:gs pos="100000">
              <a:srgbClr val="fb056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Testing Bridge with extra sticks</a:t>
            </a: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181480" y="1295280"/>
            <a:ext cx="3033720" cy="4191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 flipH="1" rot="21568200">
            <a:off x="152280" y="1980720"/>
            <a:ext cx="4572000" cy="30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056e"/>
            </a:gs>
            <a:gs pos="50000">
              <a:srgbClr val="000000"/>
            </a:gs>
            <a:gs pos="100000">
              <a:srgbClr val="fb056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773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Adding Rocks to the Bridge</a:t>
            </a: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930400" y="1600200"/>
            <a:ext cx="3164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056e"/>
            </a:gs>
            <a:gs pos="50000">
              <a:srgbClr val="000000"/>
            </a:gs>
            <a:gs pos="100000">
              <a:srgbClr val="fb056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How much will it Hold?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276720" y="1828800"/>
            <a:ext cx="28494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056e"/>
            </a:gs>
            <a:gs pos="50000">
              <a:srgbClr val="000000"/>
            </a:gs>
            <a:gs pos="100000">
              <a:srgbClr val="fb056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77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It Broke </a:t>
            </a:r>
            <a:r>
              <a:rPr b="0" lang="en-US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00400" y="1523880"/>
            <a:ext cx="26002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3T16:48:58Z</dcterms:created>
  <dc:creator>USD376</dc:creator>
  <dc:description/>
  <dc:language>en-US</dc:language>
  <cp:lastModifiedBy>USD376</cp:lastModifiedBy>
  <dcterms:modified xsi:type="dcterms:W3CDTF">2010-02-10T17:14:31Z</dcterms:modified>
  <cp:revision>12</cp:revision>
  <dc:subject/>
  <dc:title>Test Bridge</dc:title>
</cp:coreProperties>
</file>